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0AB0-CAC5-4373-8564-7CE4C69FB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8E69-B5C1-4463-9B01-F4D7A3F7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39AB-584F-432C-8F2C-B3CE6B047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BB8E-DE9E-4253-9958-1C1DD5FD7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0732-9AF5-4CA6-8A53-8E7FC5DF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D0EE-09A9-4AE2-9347-FB844764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5A85-3B54-41E9-8C42-11DA4CFC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281B-2FA7-47BC-AC51-8A3F146A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1C7C-D7FD-4E40-A845-A5ED6470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4B29-67DE-434C-A90D-13BE8E83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74F5-D293-43F5-9134-B9C0822E1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1EF4-50E2-41A5-B37C-11B756D1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DE09-92A4-4162-BC1B-4DAEDDB0A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Ontology 2.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ion of multiple is_a inheritance through instantiation of relationships to terms in outside ontologies, such as the GO cellular component, GO biological process, and the PATO phenotype ontolo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come should be more ontologically correct, and more useful for data ana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is likely to be slow, due to lack of personnel and funding to organize the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 for this Workshop</a:t>
            </a:r>
            <a:br>
              <a:rPr sz="4400"/>
            </a:b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(per Ale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agmatic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 the ontology in its current form to include additional immune cell ty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deal Out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 the groundwork for CL 2.0 in the area of immune cell ty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Cases for Cell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1905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otation (ongoing for G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 product term formation with GO, MP, and other ontologies (ongoin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ation of Flow Cytometry Resu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une System Mode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DB annotation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we describe Cel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face ma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cription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r process invol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we describe Cel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face ma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cription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r process invol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81280" y="21337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57800" y="2971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180f"/>
                </a:solidFill>
                <a:latin typeface="ヒラギノ角ゴ Pro W3"/>
              </a:rPr>
              <a:t>_x0008__x0008_</a:t>
            </a:r>
            <a:r>
              <a:rPr b="0" lang="en-US" sz="2400" spc="-1" strike="noStrike">
                <a:solidFill>
                  <a:srgbClr val="fa180f"/>
                </a:solidFill>
                <a:latin typeface="Arial"/>
              </a:rPr>
              <a:t>Protein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3809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180f"/>
                </a:solidFill>
                <a:latin typeface="ヒラギノ角ゴ Pro W3"/>
              </a:rPr>
              <a:t>_x0008__x0008_</a:t>
            </a:r>
            <a:r>
              <a:rPr b="0" lang="en-US" sz="2400" spc="-1" strike="noStrike">
                <a:solidFill>
                  <a:srgbClr val="fa180f"/>
                </a:solidFill>
                <a:latin typeface="Arial"/>
              </a:rPr>
              <a:t>Anatomy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05720" y="426708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180f"/>
                </a:solidFill>
                <a:latin typeface="ヒラギノ角ゴ Pro W3"/>
              </a:rPr>
              <a:t>_x0008__x0008_</a:t>
            </a:r>
            <a:r>
              <a:rPr b="0" lang="en-US" sz="2400" spc="-1" strike="noStrike">
                <a:solidFill>
                  <a:srgbClr val="fa180f"/>
                </a:solidFill>
                <a:latin typeface="Arial"/>
              </a:rPr>
              <a:t>GO Biolog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43400" y="289548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952880" y="32763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43200" y="4038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400800" y="4648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15238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ink to external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 we describe Cell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face mar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cription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r process invol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81280" y="21337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57800" y="2971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180f"/>
                </a:solidFill>
                <a:latin typeface="ヒラギノ角ゴ Pro W3"/>
              </a:rPr>
              <a:t>_x0008__x0008_</a:t>
            </a:r>
            <a:r>
              <a:rPr b="0" lang="en-US" sz="2400" spc="-1" strike="noStrike">
                <a:solidFill>
                  <a:srgbClr val="fa180f"/>
                </a:solidFill>
                <a:latin typeface="Arial"/>
              </a:rPr>
              <a:t>expresses_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809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180f"/>
                </a:solidFill>
                <a:latin typeface="ヒラギノ角ゴ Pro W3"/>
              </a:rPr>
              <a:t>_x0008__x0008_</a:t>
            </a:r>
            <a:r>
              <a:rPr b="0" lang="en-US" sz="2400" spc="-1" strike="noStrike">
                <a:solidFill>
                  <a:srgbClr val="fa180f"/>
                </a:solidFill>
                <a:latin typeface="Arial"/>
              </a:rPr>
              <a:t>located_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705720" y="43815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180f"/>
                </a:solidFill>
                <a:latin typeface="ヒラギノ角ゴ Pro W3"/>
              </a:rPr>
              <a:t>_x0008__x0008_</a:t>
            </a:r>
            <a:r>
              <a:rPr b="0" lang="en-US" sz="2400" spc="-1" strike="noStrike">
                <a:solidFill>
                  <a:srgbClr val="fa180f"/>
                </a:solidFill>
                <a:latin typeface="Arial"/>
              </a:rPr>
              <a:t>participates_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289548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952880" y="32763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4038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400800" y="4648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43200" y="15238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ink via specific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to Discu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33520" y="1905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ction between ontology, knowledgebase, and vocabul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uch information is needed to describe a cell uniquely — to create a formal defini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deal with species differ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15:42:36Z</dcterms:created>
  <dc:creator>Alexander Diehl</dc:creator>
  <dc:description/>
  <dc:language>en-US</dc:language>
  <cp:lastModifiedBy>Alexander Diehl</cp:lastModifiedBy>
  <dcterms:modified xsi:type="dcterms:W3CDTF">2008-05-13T01:12:48Z</dcterms:modified>
  <cp:revision>6</cp:revision>
  <dc:subject/>
  <dc:title>Cell Ontology 2.0 </dc:title>
</cp:coreProperties>
</file>